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618-0FAE-442B-9EE7-C2B99F96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E7C-44CD-4862-8F5F-9DE9928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CA9-6F63-4E0B-9CB4-B5041E8D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644-7BF6-4ECD-98CB-8E29E51B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9C3-25B4-4444-A1CE-8BDE62E9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670-D6FE-4CD3-9A66-FCD653A5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2C8-1B10-45E7-A0BA-5BC980F7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19F-6634-4B44-AA12-57C852D1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420-6DAF-4DC9-B850-7B971503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776-B906-4E38-89AE-F342D81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4B1-0F7C-4196-99C4-5A8609C3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489-8C67-45D9-8F30-0BCCCD0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5DEB-7E3D-434E-A91D-7F12D10C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mailto:film@childnet.co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9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16000" y="5846760"/>
            <a:ext cx="22683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88800" y="5951520"/>
            <a:ext cx="19209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1062000" y="276120"/>
            <a:ext cx="5942160" cy="3152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7760" y="4070520"/>
            <a:ext cx="7912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ect with resp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etter internet starts with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71640" y="57722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How can you and your friends connect with respect  to make the internet a great and safe pl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4322880" y="50760"/>
            <a:ext cx="28558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5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85840" y="1628640"/>
            <a:ext cx="7740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tition clos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onday 1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n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lists reveale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onday 18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Jun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reening event for winners will b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uesday 3rd July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 people (max) per finished fil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hools/youth settings can enter multiple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can post or email your movie to 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ember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you use the internet positive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ust be central to your film’s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as creative, unique and informative as 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ve fu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0"/>
          <a:stretch/>
        </p:blipFill>
        <p:spPr>
          <a:xfrm rot="21354000">
            <a:off x="2293560" y="483840"/>
            <a:ext cx="3276720" cy="86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11"/>
          <a:stretch/>
        </p:blipFill>
        <p:spPr>
          <a:xfrm>
            <a:off x="5923080" y="208080"/>
            <a:ext cx="213048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400" y="1928880"/>
            <a:ext cx="7319880" cy="45259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ur mission is to work with others around the world to make the internet a great and safe place fo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ur annual film competition encourages young people nationwide to share their love for, and interest in the internet, in a positive, creative and inspiring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511960" y="5778360"/>
            <a:ext cx="2268360" cy="7812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3"/>
          <a:stretch/>
        </p:blipFill>
        <p:spPr>
          <a:xfrm>
            <a:off x="5684760" y="5883120"/>
            <a:ext cx="192096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 rot="21423600">
            <a:off x="2268360" y="404280"/>
            <a:ext cx="4618080" cy="81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79280" y="5778360"/>
            <a:ext cx="2232000" cy="1098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19"/>
          <p:cNvSpPr/>
          <p:nvPr/>
        </p:nvSpPr>
        <p:spPr>
          <a:xfrm rot="5400000">
            <a:off x="51710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9280" y="0"/>
            <a:ext cx="82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2720" y="1773360"/>
            <a:ext cx="730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in exciting prizes for your school like a Canon DSLR came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 previous experience required!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rt and guidance are offered on our top tips section and for any technical questions email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film@childnet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film’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conten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messa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ority. It must be the young people’s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6"/>
          <a:stretch/>
        </p:blipFill>
        <p:spPr>
          <a:xfrm>
            <a:off x="5334120" y="0"/>
            <a:ext cx="2822400" cy="157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7"/>
          <a:stretch/>
        </p:blipFill>
        <p:spPr>
          <a:xfrm rot="21279000">
            <a:off x="1808280" y="541080"/>
            <a:ext cx="3419280" cy="8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8"/>
          <a:stretch/>
        </p:blipFill>
        <p:spPr>
          <a:xfrm>
            <a:off x="6372360" y="5532480"/>
            <a:ext cx="154944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54000" y="0"/>
            <a:ext cx="8190000" cy="7245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0680" y="1557360"/>
            <a:ext cx="71769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reate a 60 second film around the t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nect with resp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better internet starts with 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808200" y="3008160"/>
            <a:ext cx="6788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might be using the internet to support others, to create, communicate, share things or learn new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 rot="5400000">
            <a:off x="5057280" y="3082680"/>
            <a:ext cx="71740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38120" y="4175280"/>
            <a:ext cx="71582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tand out from the crowd - make it original, funny, creative, thoughtful and interesting… Entertain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 rot="172200">
            <a:off x="2811240" y="769680"/>
            <a:ext cx="24112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0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 rot="21436200">
            <a:off x="696600" y="274680"/>
            <a:ext cx="6661080" cy="731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084320" y="1341360"/>
            <a:ext cx="588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ell us why it is so important to always be respectful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08000" y="422100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o you like about the int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797040" y="2743200"/>
            <a:ext cx="1211040" cy="1209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2749680" y="5091120"/>
            <a:ext cx="29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things would you like to change about the int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684600" y="3624120"/>
            <a:ext cx="1209600" cy="1211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ircular Arrow 6"/>
          <p:cNvSpPr/>
          <p:nvPr/>
        </p:nvSpPr>
        <p:spPr>
          <a:xfrm>
            <a:off x="3929040" y="3840120"/>
            <a:ext cx="720720" cy="719280"/>
          </a:xfrm>
          <a:custGeom>
            <a:avLst/>
            <a:gdLst/>
            <a:ahLst/>
            <a:rect l="l" t="t" r="r" b="b"/>
            <a:pathLst>
              <a:path w="720725" h="719137">
                <a:moveTo>
                  <a:pt x="613228" y="547631"/>
                </a:moveTo>
                <a:cubicBezTo>
                  <a:pt x="525862" y="664511"/>
                  <a:pt x="369440" y="706210"/>
                  <a:pt x="235266" y="648388"/>
                </a:cubicBezTo>
                <a:cubicBezTo>
                  <a:pt x="100715" y="590403"/>
                  <a:pt x="23939" y="447605"/>
                  <a:pt x="49955" y="303725"/>
                </a:cubicBezTo>
                <a:cubicBezTo>
                  <a:pt x="75936" y="160037"/>
                  <a:pt x="197606" y="53059"/>
                  <a:pt x="343779" y="45382"/>
                </a:cubicBezTo>
                <a:cubicBezTo>
                  <a:pt x="489892" y="37708"/>
                  <a:pt x="622113" y="131273"/>
                  <a:pt x="663131" y="271368"/>
                </a:cubicBezTo>
                <a:lnTo>
                  <a:pt x="705850" y="271367"/>
                </a:lnTo>
                <a:lnTo>
                  <a:pt x="630833" y="359568"/>
                </a:lnTo>
                <a:lnTo>
                  <a:pt x="526065" y="271367"/>
                </a:lnTo>
                <a:lnTo>
                  <a:pt x="567791" y="271367"/>
                </a:lnTo>
                <a:cubicBezTo>
                  <a:pt x="527741" y="177841"/>
                  <a:pt x="429659" y="122766"/>
                  <a:pt x="328629" y="137074"/>
                </a:cubicBezTo>
                <a:cubicBezTo>
                  <a:pt x="227447" y="151404"/>
                  <a:pt x="148582" y="231743"/>
                  <a:pt x="136437" y="332860"/>
                </a:cubicBezTo>
                <a:cubicBezTo>
                  <a:pt x="124276" y="434106"/>
                  <a:pt x="182046" y="530822"/>
                  <a:pt x="277155" y="568443"/>
                </a:cubicBezTo>
                <a:cubicBezTo>
                  <a:pt x="371911" y="605925"/>
                  <a:pt x="480119" y="575400"/>
                  <a:pt x="541098" y="493985"/>
                </a:cubicBezTo>
                <a:lnTo>
                  <a:pt x="613228" y="5476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391000" y="42195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we make those changes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232680" y="2651040"/>
            <a:ext cx="122688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"/>
          <p:cNvPicPr/>
          <p:nvPr/>
        </p:nvPicPr>
        <p:blipFill>
          <a:blip r:embed="rId5"/>
          <a:stretch/>
        </p:blipFill>
        <p:spPr>
          <a:xfrm>
            <a:off x="6243480" y="5722920"/>
            <a:ext cx="17463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0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 rot="21411000">
            <a:off x="777960" y="306000"/>
            <a:ext cx="6948360" cy="102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539640" y="1979640"/>
            <a:ext cx="2274840" cy="289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b0f0"/>
            </a:outerShdw>
          </a:effectLst>
        </p:spPr>
      </p:pic>
      <p:sp>
        <p:nvSpPr>
          <p:cNvPr id="83" name="Rectangle 11"/>
          <p:cNvSpPr/>
          <p:nvPr/>
        </p:nvSpPr>
        <p:spPr>
          <a:xfrm>
            <a:off x="2987640" y="1979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is a digital footpr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2914560" y="3573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o your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95280" y="506880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nk about what you like about the internet and what you want to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feel about someone wh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 rot="20458200">
            <a:off x="6594480" y="5800680"/>
            <a:ext cx="15732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11120" y="2938320"/>
            <a:ext cx="2489400" cy="329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3"/>
          <a:stretch/>
        </p:blipFill>
        <p:spPr>
          <a:xfrm rot="21480000">
            <a:off x="539640" y="260280"/>
            <a:ext cx="702000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2"/>
          <p:cNvSpPr/>
          <p:nvPr/>
        </p:nvSpPr>
        <p:spPr>
          <a:xfrm>
            <a:off x="411120" y="1440000"/>
            <a:ext cx="740088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ow can you and your friends connect with respect  to make the internet a great and safe pl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24000" y="3244680"/>
            <a:ext cx="266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Write down some film ideas on paper or post-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Sort the ideas into the categorie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3532320" y="3243240"/>
            <a:ext cx="1871640" cy="18734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529080" y="38336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 idea that meets the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5977080" y="3244680"/>
            <a:ext cx="1871640" cy="187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6040440" y="3780000"/>
            <a:ext cx="18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great idea, but does not meet the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4721400" y="4813200"/>
            <a:ext cx="1871640" cy="1871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4797360" y="5288040"/>
            <a:ext cx="17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t su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/could be changed to meet the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 rot="21480000">
            <a:off x="1186920" y="260280"/>
            <a:ext cx="5653080" cy="770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900000" y="12430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is copyright? What do you know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150840" y="1920960"/>
            <a:ext cx="2050920" cy="449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157320" y="2549520"/>
            <a:ext cx="509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1. Only famous filmmakers and authors can own the copyright to their work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50840" y="3557520"/>
            <a:ext cx="52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2. Using only 30 seconds of someone else’s song in your own video still breaks copy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57320" y="475776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3. Everything on the internet is in the public domain and free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5810400" y="269388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5"/>
          <a:stretch/>
        </p:blipFill>
        <p:spPr>
          <a:xfrm>
            <a:off x="5867280" y="3838680"/>
            <a:ext cx="119088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6"/>
          <a:stretch/>
        </p:blipFill>
        <p:spPr>
          <a:xfrm>
            <a:off x="5810400" y="492912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7"/>
          <a:stretch/>
        </p:blipFill>
        <p:spPr>
          <a:xfrm>
            <a:off x="2427120" y="5958000"/>
            <a:ext cx="1920960" cy="946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6"/>
          <p:cNvSpPr/>
          <p:nvPr/>
        </p:nvSpPr>
        <p:spPr>
          <a:xfrm>
            <a:off x="3851280" y="6002280"/>
            <a:ext cx="44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you create your film without breaking copyr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5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369720" y="5391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n ani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3132000" y="6021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rap or spoken wo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6108840" y="2930400"/>
            <a:ext cx="15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dr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6"/>
          <p:cNvSpPr/>
          <p:nvPr/>
        </p:nvSpPr>
        <p:spPr>
          <a:xfrm>
            <a:off x="3684600" y="28796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s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8"/>
          <p:cNvSpPr/>
          <p:nvPr/>
        </p:nvSpPr>
        <p:spPr>
          <a:xfrm>
            <a:off x="5824440" y="57340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news re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6" descr="http://whitleyaward.org/wp-content/uploads/2011/09/Sir-David-Attenborough.jpg"/>
          <p:cNvPicPr/>
          <p:nvPr/>
        </p:nvPicPr>
        <p:blipFill>
          <a:blip r:embed="rId1"/>
          <a:stretch/>
        </p:blipFill>
        <p:spPr>
          <a:xfrm>
            <a:off x="693720" y="1781280"/>
            <a:ext cx="1233360" cy="1251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0"/>
          <p:cNvSpPr/>
          <p:nvPr/>
        </p:nvSpPr>
        <p:spPr>
          <a:xfrm>
            <a:off x="181080" y="30686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documentary?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"/>
          <p:cNvPicPr/>
          <p:nvPr/>
        </p:nvPicPr>
        <p:blipFill>
          <a:blip r:embed="rId2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6272280" y="4564080"/>
            <a:ext cx="117792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http://www.opensourceforu.com/wp-content/uploads/2011/01/Motion-animation-590x278.jpg"/>
          <p:cNvPicPr/>
          <p:nvPr/>
        </p:nvPicPr>
        <p:blipFill>
          <a:blip r:embed="rId4"/>
          <a:stretch/>
        </p:blipFill>
        <p:spPr>
          <a:xfrm>
            <a:off x="204840" y="4395960"/>
            <a:ext cx="2190600" cy="103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3035160" y="1609560"/>
            <a:ext cx="220680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6"/>
          <a:stretch/>
        </p:blipFill>
        <p:spPr>
          <a:xfrm rot="334200">
            <a:off x="5832360" y="1668600"/>
            <a:ext cx="2129040" cy="130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7"/>
          <a:stretch/>
        </p:blipFill>
        <p:spPr>
          <a:xfrm rot="21410400">
            <a:off x="2133720" y="325080"/>
            <a:ext cx="5000400" cy="106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8"/>
          <a:stretch/>
        </p:blipFill>
        <p:spPr>
          <a:xfrm rot="306000">
            <a:off x="2383920" y="3633840"/>
            <a:ext cx="4283280" cy="63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9"/>
          <a:stretch/>
        </p:blipFill>
        <p:spPr>
          <a:xfrm>
            <a:off x="3211560" y="4513320"/>
            <a:ext cx="14032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06:14Z</dcterms:created>
  <dc:creator>LindsayB</dc:creator>
  <dc:description/>
  <dc:language>en-US</dc:language>
  <cp:lastModifiedBy>Becca Cawthorne</cp:lastModifiedBy>
  <dcterms:modified xsi:type="dcterms:W3CDTF">2018-02-19T14:18:24Z</dcterms:modified>
  <cp:revision>188</cp:revision>
  <dc:subject/>
  <dc:title>CHILDNET INTERNATIONAL</dc:title>
</cp:coreProperties>
</file>